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24.png" ContentType="image/png"/>
  <Override PartName="/ppt/media/image11.jpeg" ContentType="image/jpeg"/>
  <Override PartName="/ppt/media/image9.png" ContentType="image/png"/>
  <Override PartName="/ppt/media/image39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35.png" ContentType="image/png"/>
  <Override PartName="/ppt/media/image5.jpeg" ContentType="image/jpe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AD23-B57B-494B-8DB3-C878E99EAB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0996-D95C-4849-B05E-7ACC00DA4A1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A2DF-A927-4499-AF87-76EEDA5D5AF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9840-7A3C-40D8-A1BA-87743156744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7DBD-2853-4196-8200-A9D47239B02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30D3-28E2-49DB-97EF-107CAF357BF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05BA-0050-435A-95E3-8297CA8F93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011C-BE7A-4857-AC28-6577AA11239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B1E7-7DD8-4AD9-87BD-226D00B69BE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CD64-0EAA-4AB9-8B1F-0376ADD32E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2876-C561-4C66-9671-F14CA79D8F8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134F-BBAA-442A-B12D-12454F2CFC3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2F03-484C-4ABA-928F-8BC3719A675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253-4C8C-4090-BC38-9358279E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1E1-0971-4ECE-9AC8-06F622EA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4A9-CF16-41CC-B9FC-9C8928DB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C38-55B7-4BC7-B0F3-A79FB6BF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1BC-FBC4-4F4E-A756-20381F94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73B-16AF-4321-919B-26738DA8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9D7-36F8-4C59-AF77-5ECA2204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C4A-89FF-49BF-9649-D1D587FC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2D3-A64A-46A9-9065-83B8C123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520-CF3E-4AA3-BF59-239A297E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DF5-0222-447C-A252-7D964DD0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AA2-EBB3-4FDC-824A-FECCC200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CE83-3C14-4649-A9C6-0FA9FD4B7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40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2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28.png"/><Relationship Id="rId8" Type="http://schemas.openxmlformats.org/officeDocument/2006/relationships/image" Target="../media/image25.png"/><Relationship Id="rId9" Type="http://schemas.openxmlformats.org/officeDocument/2006/relationships/image" Target="../media/image29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8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7.png"/><Relationship Id="rId9" Type="http://schemas.openxmlformats.org/officeDocument/2006/relationships/image" Target="../media/image35.png"/><Relationship Id="rId10" Type="http://schemas.openxmlformats.org/officeDocument/2006/relationships/image" Target="../media/image1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8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7.png"/><Relationship Id="rId9" Type="http://schemas.openxmlformats.org/officeDocument/2006/relationships/image" Target="../media/image35.png"/><Relationship Id="rId10" Type="http://schemas.openxmlformats.org/officeDocument/2006/relationships/image" Target="../media/image1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9c7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9"/>
          <p:cNvSpPr txBox="1"/>
          <p:nvPr/>
        </p:nvSpPr>
        <p:spPr>
          <a:xfrm>
            <a:off x="574560" y="2143080"/>
            <a:ext cx="7993080" cy="16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вощи и фрукты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3933720"/>
            <a:ext cx="9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знакомление детей с овощами и фру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grusha[1]"/>
          <p:cNvPicPr/>
          <p:nvPr/>
        </p:nvPicPr>
        <p:blipFill>
          <a:blip r:embed="rId1"/>
          <a:srcRect l="0" t="0" r="0" b="17744"/>
          <a:stretch/>
        </p:blipFill>
        <p:spPr>
          <a:xfrm rot="20109000">
            <a:off x="1919160" y="690480"/>
            <a:ext cx="151128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banan[1]"/>
          <p:cNvPicPr/>
          <p:nvPr/>
        </p:nvPicPr>
        <p:blipFill>
          <a:blip r:embed="rId2"/>
          <a:srcRect l="0" t="0" r="0" b="16837"/>
          <a:stretch/>
        </p:blipFill>
        <p:spPr>
          <a:xfrm rot="1383600">
            <a:off x="6291360" y="676080"/>
            <a:ext cx="1511280" cy="125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granat[1]"/>
          <p:cNvPicPr/>
          <p:nvPr/>
        </p:nvPicPr>
        <p:blipFill>
          <a:blip r:embed="rId3">
            <a:lum contrast="12000"/>
          </a:blip>
          <a:srcRect l="0" t="0" r="0" b="19104"/>
          <a:stretch/>
        </p:blipFill>
        <p:spPr>
          <a:xfrm>
            <a:off x="4067280" y="39528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2[1]"/>
          <p:cNvPicPr/>
          <p:nvPr/>
        </p:nvPicPr>
        <p:blipFill>
          <a:blip r:embed="rId4"/>
          <a:stretch/>
        </p:blipFill>
        <p:spPr>
          <a:xfrm>
            <a:off x="714240" y="4357800"/>
            <a:ext cx="295128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то нужно для приготов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3600" y="15256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Борща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Комп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b5b1b994db64[1]"/>
          <p:cNvPicPr/>
          <p:nvPr/>
        </p:nvPicPr>
        <p:blipFill>
          <a:blip r:embed="rId2"/>
          <a:stretch/>
        </p:blipFill>
        <p:spPr>
          <a:xfrm>
            <a:off x="3129120" y="1327320"/>
            <a:ext cx="2690640" cy="388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2[1]"/>
          <p:cNvPicPr/>
          <p:nvPr/>
        </p:nvPicPr>
        <p:blipFill>
          <a:blip r:embed="rId3"/>
          <a:stretch/>
        </p:blipFill>
        <p:spPr>
          <a:xfrm>
            <a:off x="5364000" y="4221000"/>
            <a:ext cx="2951280" cy="2203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1234391615_shutterstock_3228715[1]"/>
          <p:cNvPicPr/>
          <p:nvPr/>
        </p:nvPicPr>
        <p:blipFill>
          <a:blip r:embed="rId4"/>
          <a:stretch/>
        </p:blipFill>
        <p:spPr>
          <a:xfrm>
            <a:off x="468360" y="3789360"/>
            <a:ext cx="3058920" cy="2546280"/>
          </a:xfrm>
          <a:prstGeom prst="rect">
            <a:avLst/>
          </a:prstGeom>
          <a:ln w="0">
            <a:noFill/>
          </a:ln>
        </p:spPr>
      </p:pic>
      <p:sp>
        <p:nvSpPr>
          <p:cNvPr id="161" name="Freeform 14"/>
          <p:cNvSpPr/>
          <p:nvPr/>
        </p:nvSpPr>
        <p:spPr>
          <a:xfrm>
            <a:off x="6804000" y="2276640"/>
            <a:ext cx="909720" cy="13586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5"/>
          <p:cNvSpPr/>
          <p:nvPr/>
        </p:nvSpPr>
        <p:spPr>
          <a:xfrm>
            <a:off x="7451640" y="2565360"/>
            <a:ext cx="426960" cy="790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6"/>
          <p:cNvSpPr/>
          <p:nvPr/>
        </p:nvSpPr>
        <p:spPr>
          <a:xfrm>
            <a:off x="7475400" y="2708280"/>
            <a:ext cx="336600" cy="447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7"/>
          <p:cNvGrpSpPr/>
          <p:nvPr/>
        </p:nvGrpSpPr>
        <p:grpSpPr>
          <a:xfrm>
            <a:off x="457200" y="2349360"/>
            <a:ext cx="1953720" cy="1295280"/>
            <a:chOff x="457200" y="2349360"/>
            <a:chExt cx="1953720" cy="1295280"/>
          </a:xfrm>
        </p:grpSpPr>
        <p:sp>
          <p:nvSpPr>
            <p:cNvPr id="165" name="Rectangle 21"/>
            <p:cNvSpPr/>
            <p:nvPr/>
          </p:nvSpPr>
          <p:spPr>
            <a:xfrm>
              <a:off x="813960" y="2809080"/>
              <a:ext cx="1249560" cy="835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22"/>
            <p:cNvSpPr/>
            <p:nvPr/>
          </p:nvSpPr>
          <p:spPr>
            <a:xfrm rot="16411800">
              <a:off x="673200" y="2734200"/>
              <a:ext cx="329040" cy="74268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23"/>
            <p:cNvSpPr/>
            <p:nvPr/>
          </p:nvSpPr>
          <p:spPr>
            <a:xfrm rot="5400000">
              <a:off x="1899000" y="2758320"/>
              <a:ext cx="329040" cy="6948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5"/>
            <p:cNvSpPr/>
            <p:nvPr/>
          </p:nvSpPr>
          <p:spPr>
            <a:xfrm rot="5400000">
              <a:off x="1207440" y="2015280"/>
              <a:ext cx="461160" cy="138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26"/>
            <p:cNvSpPr/>
            <p:nvPr/>
          </p:nvSpPr>
          <p:spPr>
            <a:xfrm>
              <a:off x="1230480" y="2349360"/>
              <a:ext cx="486720" cy="4406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Oval 22"/>
          <p:cNvSpPr/>
          <p:nvPr/>
        </p:nvSpPr>
        <p:spPr>
          <a:xfrm>
            <a:off x="6854760" y="2878200"/>
            <a:ext cx="911160" cy="79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-0.27616 L -0.52361 -0.00324 E">
                                      <p:cBhvr>
                                        <p:cTn id="61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-0.24861 L 0.47848 0.08727 E">
                                      <p:cBhvr>
                                        <p:cTn id="61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a"/>
            </a:gs>
            <a:gs pos="100000">
              <a:srgbClr val="ff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Кто его раздевает, тот слёзы прол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 сучках висят шары, посинели от ж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Сидит девица в темнице, а коса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70 одёжек и все без застё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luk[1]"/>
          <p:cNvPicPr/>
          <p:nvPr/>
        </p:nvPicPr>
        <p:blipFill>
          <a:blip r:embed="rId1"/>
          <a:srcRect l="0" t="0" r="0" b="16837"/>
          <a:stretch/>
        </p:blipFill>
        <p:spPr>
          <a:xfrm>
            <a:off x="4611600" y="907920"/>
            <a:ext cx="1905120" cy="15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iCA61T5F3"/>
          <p:cNvPicPr/>
          <p:nvPr/>
        </p:nvPicPr>
        <p:blipFill>
          <a:blip r:embed="rId2"/>
          <a:stretch/>
        </p:blipFill>
        <p:spPr>
          <a:xfrm>
            <a:off x="4809960" y="249228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kapusta[1]"/>
          <p:cNvPicPr/>
          <p:nvPr/>
        </p:nvPicPr>
        <p:blipFill>
          <a:blip r:embed="rId3"/>
          <a:srcRect l="0" t="0" r="0" b="16837"/>
          <a:stretch/>
        </p:blipFill>
        <p:spPr>
          <a:xfrm>
            <a:off x="4572000" y="5273640"/>
            <a:ext cx="190512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morkov[1]"/>
          <p:cNvPicPr/>
          <p:nvPr/>
        </p:nvPicPr>
        <p:blipFill>
          <a:blip r:embed="rId4"/>
          <a:srcRect l="0" t="0" r="0" b="24414"/>
          <a:stretch/>
        </p:blipFill>
        <p:spPr>
          <a:xfrm>
            <a:off x="4611600" y="3824280"/>
            <a:ext cx="1905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a"/>
            </a:gs>
            <a:gs pos="100000">
              <a:srgbClr val="ff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71360" y="1600200"/>
            <a:ext cx="407196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C:\Users\Андрей\Desktop\036.jpg"/>
          <p:cNvPicPr/>
          <p:nvPr/>
        </p:nvPicPr>
        <p:blipFill>
          <a:blip r:embed="rId1"/>
          <a:stretch/>
        </p:blipFill>
        <p:spPr>
          <a:xfrm>
            <a:off x="928800" y="428760"/>
            <a:ext cx="75009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Что  растёт на дерев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8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439931[1]"/>
          <p:cNvPicPr/>
          <p:nvPr/>
        </p:nvPicPr>
        <p:blipFill>
          <a:blip r:embed="rId1"/>
          <a:stretch/>
        </p:blipFill>
        <p:spPr>
          <a:xfrm>
            <a:off x="179280" y="1989000"/>
            <a:ext cx="4608720" cy="451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iCA61T5F3"/>
          <p:cNvPicPr/>
          <p:nvPr/>
        </p:nvPicPr>
        <p:blipFill>
          <a:blip r:embed="rId2"/>
          <a:stretch/>
        </p:blipFill>
        <p:spPr>
          <a:xfrm>
            <a:off x="5076720" y="3500280"/>
            <a:ext cx="1366920" cy="13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iCA16XEJB"/>
          <p:cNvPicPr/>
          <p:nvPr/>
        </p:nvPicPr>
        <p:blipFill>
          <a:blip r:embed="rId3"/>
          <a:stretch/>
        </p:blipFill>
        <p:spPr>
          <a:xfrm>
            <a:off x="5219640" y="1700280"/>
            <a:ext cx="130176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grusha[1]"/>
          <p:cNvPicPr/>
          <p:nvPr/>
        </p:nvPicPr>
        <p:blipFill>
          <a:blip r:embed="rId4"/>
          <a:srcRect l="0" t="0" r="0" b="17744"/>
          <a:stretch/>
        </p:blipFill>
        <p:spPr>
          <a:xfrm>
            <a:off x="7164360" y="3357720"/>
            <a:ext cx="1511280" cy="124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iCA9G44JN"/>
          <p:cNvPicPr/>
          <p:nvPr/>
        </p:nvPicPr>
        <p:blipFill>
          <a:blip r:embed="rId5"/>
          <a:stretch/>
        </p:blipFill>
        <p:spPr>
          <a:xfrm>
            <a:off x="5292720" y="5308560"/>
            <a:ext cx="1150920" cy="113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anan[1]"/>
          <p:cNvPicPr/>
          <p:nvPr/>
        </p:nvPicPr>
        <p:blipFill>
          <a:blip r:embed="rId6"/>
          <a:srcRect l="0" t="0" r="0" b="16837"/>
          <a:stretch/>
        </p:blipFill>
        <p:spPr>
          <a:xfrm>
            <a:off x="7020000" y="1773360"/>
            <a:ext cx="151128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vinograd[1]"/>
          <p:cNvPicPr/>
          <p:nvPr/>
        </p:nvPicPr>
        <p:blipFill>
          <a:blip r:embed="rId7"/>
          <a:srcRect l="0" t="0" r="0" b="20673"/>
          <a:stretch/>
        </p:blipFill>
        <p:spPr>
          <a:xfrm rot="18779400">
            <a:off x="7061040" y="4755600"/>
            <a:ext cx="16923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Что растёт на гряд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8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fruit_garden_12400164_big[1]"/>
          <p:cNvPicPr/>
          <p:nvPr/>
        </p:nvPicPr>
        <p:blipFill>
          <a:blip r:embed="rId2"/>
          <a:stretch/>
        </p:blipFill>
        <p:spPr>
          <a:xfrm>
            <a:off x="539640" y="1700280"/>
            <a:ext cx="4321440" cy="488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luk[1]"/>
          <p:cNvPicPr/>
          <p:nvPr/>
        </p:nvPicPr>
        <p:blipFill>
          <a:blip r:embed="rId3"/>
          <a:srcRect l="0" t="0" r="0" b="18991"/>
          <a:stretch/>
        </p:blipFill>
        <p:spPr>
          <a:xfrm>
            <a:off x="5148360" y="1844640"/>
            <a:ext cx="1512720" cy="122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orkov[1]"/>
          <p:cNvPicPr/>
          <p:nvPr/>
        </p:nvPicPr>
        <p:blipFill>
          <a:blip r:embed="rId4"/>
          <a:srcRect l="0" t="0" r="0" b="20578"/>
          <a:stretch/>
        </p:blipFill>
        <p:spPr>
          <a:xfrm>
            <a:off x="6948360" y="3141720"/>
            <a:ext cx="1800360" cy="143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kartoshka[1]"/>
          <p:cNvPicPr/>
          <p:nvPr/>
        </p:nvPicPr>
        <p:blipFill>
          <a:blip r:embed="rId5"/>
          <a:srcRect l="0" t="0" r="0" b="16837"/>
          <a:stretch/>
        </p:blipFill>
        <p:spPr>
          <a:xfrm>
            <a:off x="5076720" y="4941720"/>
            <a:ext cx="1656000" cy="137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ogurec[1]"/>
          <p:cNvPicPr/>
          <p:nvPr/>
        </p:nvPicPr>
        <p:blipFill>
          <a:blip r:embed="rId6"/>
          <a:srcRect l="0" t="0" r="0" b="20597"/>
          <a:stretch/>
        </p:blipFill>
        <p:spPr>
          <a:xfrm>
            <a:off x="5148360" y="3338640"/>
            <a:ext cx="1655640" cy="131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pomidor[1]"/>
          <p:cNvPicPr/>
          <p:nvPr/>
        </p:nvPicPr>
        <p:blipFill>
          <a:blip r:embed="rId7"/>
          <a:srcRect l="0" t="0" r="0" b="20578"/>
          <a:stretch/>
        </p:blipFill>
        <p:spPr>
          <a:xfrm>
            <a:off x="6948360" y="1700280"/>
            <a:ext cx="1656000" cy="131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kapusta[1]"/>
          <p:cNvPicPr/>
          <p:nvPr/>
        </p:nvPicPr>
        <p:blipFill>
          <a:blip r:embed="rId8"/>
          <a:srcRect l="0" t="0" r="0" b="20673"/>
          <a:stretch/>
        </p:blipFill>
        <p:spPr>
          <a:xfrm>
            <a:off x="6948360" y="4753080"/>
            <a:ext cx="1871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ce6a"/>
            </a:gs>
            <a:gs pos="100000">
              <a:srgbClr val="fef9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gradFill rotWithShape="0">
            <a:gsLst>
              <a:gs pos="0">
                <a:srgbClr val="99cc00">
                  <a:alpha val="64313"/>
                </a:srgbClr>
              </a:gs>
              <a:gs pos="100000">
                <a:srgbClr val="a3ee7e">
                  <a:alpha val="10196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дбери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вощи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по ц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428760" y="1357200"/>
            <a:ext cx="1295280" cy="1287720"/>
          </a:xfrm>
          <a:prstGeom prst="diamond">
            <a:avLst/>
          </a:prstGeom>
          <a:solidFill>
            <a:srgbClr val="0099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929040" y="1428840"/>
            <a:ext cx="1295280" cy="1287360"/>
          </a:xfrm>
          <a:prstGeom prst="diamond">
            <a:avLst/>
          </a:prstGeom>
          <a:solidFill>
            <a:srgbClr val="ff00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715000" y="1428840"/>
            <a:ext cx="1295280" cy="1287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7358040" y="1428840"/>
            <a:ext cx="1295280" cy="1287360"/>
          </a:xfrm>
          <a:prstGeom prst="diamond">
            <a:avLst/>
          </a:prstGeom>
          <a:solidFill>
            <a:srgbClr val="6633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2143080" y="1428840"/>
            <a:ext cx="1295280" cy="1287360"/>
          </a:xfrm>
          <a:prstGeom prst="diamond">
            <a:avLst/>
          </a:prstGeom>
          <a:solidFill>
            <a:srgbClr val="ff66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luk[1]"/>
          <p:cNvPicPr/>
          <p:nvPr/>
        </p:nvPicPr>
        <p:blipFill>
          <a:blip r:embed="rId1"/>
          <a:srcRect l="0" t="0" r="0" b="18991"/>
          <a:stretch/>
        </p:blipFill>
        <p:spPr>
          <a:xfrm>
            <a:off x="2000160" y="5429160"/>
            <a:ext cx="1513080" cy="122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morkov[1]"/>
          <p:cNvPicPr/>
          <p:nvPr/>
        </p:nvPicPr>
        <p:blipFill>
          <a:blip r:embed="rId2"/>
          <a:srcRect l="0" t="0" r="0" b="20578"/>
          <a:stretch/>
        </p:blipFill>
        <p:spPr>
          <a:xfrm>
            <a:off x="7429680" y="4214880"/>
            <a:ext cx="1511280" cy="120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kartoshka[1]"/>
          <p:cNvPicPr/>
          <p:nvPr/>
        </p:nvPicPr>
        <p:blipFill>
          <a:blip r:embed="rId3"/>
          <a:srcRect l="0" t="0" r="0" b="16837"/>
          <a:stretch/>
        </p:blipFill>
        <p:spPr>
          <a:xfrm>
            <a:off x="428760" y="5661000"/>
            <a:ext cx="1439640" cy="1197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ogurec[1]"/>
          <p:cNvPicPr/>
          <p:nvPr/>
        </p:nvPicPr>
        <p:blipFill>
          <a:blip r:embed="rId4"/>
          <a:srcRect l="0" t="0" r="0" b="20597"/>
          <a:stretch/>
        </p:blipFill>
        <p:spPr>
          <a:xfrm>
            <a:off x="4000680" y="5686560"/>
            <a:ext cx="1476360" cy="117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pomidor[1]"/>
          <p:cNvPicPr/>
          <p:nvPr/>
        </p:nvPicPr>
        <p:blipFill>
          <a:blip r:embed="rId5"/>
          <a:srcRect l="0" t="0" r="0" b="20578"/>
          <a:stretch/>
        </p:blipFill>
        <p:spPr>
          <a:xfrm>
            <a:off x="5786280" y="4357800"/>
            <a:ext cx="1513080" cy="12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kapusta[1]"/>
          <p:cNvPicPr/>
          <p:nvPr/>
        </p:nvPicPr>
        <p:blipFill>
          <a:blip r:embed="rId6"/>
          <a:srcRect l="0" t="0" r="0" b="20673"/>
          <a:stretch/>
        </p:blipFill>
        <p:spPr>
          <a:xfrm>
            <a:off x="5643720" y="5600880"/>
            <a:ext cx="1585800" cy="125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repa[1]"/>
          <p:cNvPicPr/>
          <p:nvPr/>
        </p:nvPicPr>
        <p:blipFill>
          <a:blip r:embed="rId7"/>
          <a:srcRect l="0" t="0" r="0" b="20578"/>
          <a:stretch/>
        </p:blipFill>
        <p:spPr>
          <a:xfrm>
            <a:off x="7572240" y="5572080"/>
            <a:ext cx="1297080" cy="1030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pumpkin[1]"/>
          <p:cNvPicPr/>
          <p:nvPr/>
        </p:nvPicPr>
        <p:blipFill>
          <a:blip r:embed="rId8"/>
          <a:stretch/>
        </p:blipFill>
        <p:spPr>
          <a:xfrm>
            <a:off x="3929040" y="4643280"/>
            <a:ext cx="1123920" cy="1124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5" descr="pea[1]"/>
          <p:cNvPicPr/>
          <p:nvPr/>
        </p:nvPicPr>
        <p:blipFill>
          <a:blip r:embed="rId9"/>
          <a:stretch/>
        </p:blipFill>
        <p:spPr>
          <a:xfrm>
            <a:off x="2000160" y="4643280"/>
            <a:ext cx="112392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6" descr="pepper[1]"/>
          <p:cNvPicPr/>
          <p:nvPr/>
        </p:nvPicPr>
        <p:blipFill>
          <a:blip r:embed="rId10"/>
          <a:stretch/>
        </p:blipFill>
        <p:spPr>
          <a:xfrm>
            <a:off x="571680" y="4643280"/>
            <a:ext cx="94284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40741E-007 C 0.0033 -0.00648 0.00486 -0.01435 0.00868 -0.02014 C 0.01111 -0.02384 0.01459 -0.02569 0.01736 -0.02893 C 0.02118 -0.03356 0.02465 -0.03842 0.0283 -0.04328 C 0.02986 -0.04537 0.03073 -0.04838 0.03264 -0.0493 C 0.0415 -0.05301 0.04844 -0.05532 0.0566 -0.06365 C 0.08195 -0.08912 0.06424 -0.07639 0.0849 -0.08402 C 0.08924 -0.08565 0.09792 -0.08981 0.09792 -0.08981 C 0.1066 -0.10139 0.1092 -0.09838 0.11962 -0.10416 C 0.13386 -0.11203 0.1309 -0.11504 0.14792 -0.11875 C 0.15122 -0.12176 0.16389 -0.13402 0.16962 -0.13611 C 0.18889 -0.14305 0.18212 -0.13402 0.20226 -0.1449 C 0.23976 -0.16504 0.29948 -0.16481 0.33924 -0.16805 C 0.41268 -0.19259 0.43768 -0.17777 0.54792 -0.17963 C 0.55504 -0.1831 0.56215 -0.18588 0.56962 -0.18842 C 0.58038 -0.19791 0.5849 -0.20671 0.5849 -0.22315 E">
                                      <p:cBhvr>
                                        <p:cTn id="19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2963E-006 C -0.01181 -0.01042 -0.0092 -0.02408 -0.01528 -0.04052 C -0.02327 -0.06181 -0.01875 -0.04839 -0.0283 -0.06366 C -0.03212 -0.06968 -0.03316 -0.07825 -0.03698 -0.08403 C -0.04011 -0.08866 -0.04462 -0.09121 -0.04792 -0.09561 C -0.05851 -0.1095 -0.06146 -0.1176 -0.07604 -0.12454 C -0.07761 -0.12639 -0.07882 -0.12894 -0.08056 -0.13033 C -0.08247 -0.13195 -0.08542 -0.13126 -0.08698 -0.13334 C -0.09063 -0.1382 -0.09202 -0.14584 -0.09566 -0.1507 C -0.09861 -0.15464 -0.10139 -0.15834 -0.10434 -0.16227 C -0.10955 -0.18241 -0.10313 -0.16065 -0.11962 -0.19399 C -0.12639 -0.20788 -0.13247 -0.21991 -0.14132 -0.23172 C -0.14566 -0.24862 -0.14011 -0.2345 -0.15 -0.24329 C -0.15504 -0.24769 -0.15764 -0.2544 -0.16094 -0.26065 C -0.16372 -0.272 -0.16146 -0.26737 -0.16736 -0.27524 E">
                                      <p:cBhvr>
                                        <p:cTn id="19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C -0.01736 -0.02269 -0.03073 -0.05255 -0.04132 -0.08125 C -0.04601 -0.09398 -0.05382 -0.10371 -0.05886 -0.11598 C -0.0658 -0.13311 -0.06788 -0.15139 -0.0783 -0.16528 C -0.08368 -0.18635 -0.07604 -0.16088 -0.08698 -0.18264 C -0.0882 -0.18519 -0.0882 -0.18866 -0.08924 -0.19144 C -0.09306 -0.20162 -0.09427 -0.19954 -0.1 -0.2088 C -0.1132 -0.23033 -0.11684 -0.23704 -0.13698 -0.24352 C -0.14584 -0.25139 -0.15504 -0.25463 -0.16528 -0.25811 C -0.1665 -0.26273 -0.16841 -0.27246 -0.17188 -0.27547 C -0.17431 -0.27778 -0.17778 -0.27709 -0.18056 -0.27824 C -0.19705 -0.28496 -0.18837 -0.28426 -0.19792 -0.28426 E">
                                      <p:cBhvr>
                                        <p:cTn id="198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6 C -0.00434 -0.00093 -0.00903 -0.00047 -0.01302 -0.00278 C -0.02326 -0.0088 -0.02743 -0.03241 -0.03264 -0.04329 C -0.03871 -0.05602 -0.04705 -0.0669 -0.05642 -0.07524 C -0.06614 -0.09491 -0.05469 -0.0757 -0.06736 -0.08681 C -0.06996 -0.08913 -0.07153 -0.09306 -0.07396 -0.09561 C -0.08021 -0.10186 -0.08698 -0.10718 -0.0934 -0.11297 C -0.09566 -0.11482 -0.1 -0.11876 -0.1 -0.11876 C -0.10538 -0.12917 -0.10382 -0.12825 -0.11302 -0.13612 C -0.12014 -0.14214 -0.13472 -0.15348 -0.13472 -0.15348 C -0.14583 -0.17593 -0.12986 -0.14815 -0.15 -0.16505 C -0.17483 -0.18589 -0.1533 -0.17917 -0.16962 -0.18542 C -0.17239 -0.18658 -0.17535 -0.18727 -0.1783 -0.1882 C -0.18038 -0.19005 -0.18246 -0.19237 -0.18472 -0.19399 C -0.1868 -0.19538 -0.18976 -0.19491 -0.19132 -0.197 C -0.19496 -0.20186 -0.2 -0.21436 -0.2 -0.21436 C -0.20278 -0.22616 -0.20399 -0.23126 -0.21076 -0.24052 C -0.21337 -0.25024 -0.21632 -0.25649 -0.2217 -0.26366 E">
                                      <p:cBhvr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4444E-006 C -0.0099 -0.00972 -0.01893 -0.01528 -0.03056 -0.02014 C -0.04236 -0.03079 -0.05469 -0.03611 -0.06754 -0.04352 C -0.07656 -0.04884 -0.0842 -0.05671 -0.09358 -0.06088 C -0.11459 -0.08148 -0.14063 -0.08658 -0.16528 -0.0956 C -0.18334 -0.10232 -0.19896 -0.11574 -0.21754 -0.12176 C -0.24202 -0.12986 -0.26858 -0.12732 -0.29358 -0.13033 C -0.37309 -0.12917 -0.45938 -0.15023 -0.53264 -0.10139 C -0.54254 -0.08125 -0.53073 -0.10116 -0.54358 -0.08982 C -0.55938 -0.0757 -0.54184 -0.08681 -0.55434 -0.07245 C -0.55834 -0.06783 -0.56389 -0.06597 -0.56754 -0.06088 C -0.57379 -0.05232 -0.57743 -0.04421 -0.5849 -0.03773 C -0.58559 -0.03472 -0.58542 -0.03102 -0.58698 -0.02894 C -0.58854 -0.02662 -0.5915 -0.02732 -0.59358 -0.02593 C -0.59931 -0.02199 -0.60209 -0.01759 -0.6066 -0.01158 C -0.60834 -0.00394 -0.60868 0.00602 -0.6132 0.01157 E">
                                      <p:cBhvr>
                                        <p:cTn id="20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C 0.01736 -0.04629 0.03924 -0.08472 0.07622 -0.1044 C 0.0941 -0.12361 0.11702 -0.13634 0.13924 -0.14491 C 0.15886 -0.15254 0.16077 -0.14861 0.18056 -0.15949 C 0.18594 -0.1625 0.19045 -0.16782 0.19566 -0.17106 C 0.22292 -0.18842 0.24983 -0.20208 0.2783 -0.21458 C 0.31736 -0.23171 0.26337 -0.20833 0.29792 -0.22893 C 0.3033 -0.23217 0.30955 -0.23241 0.31528 -0.23472 C 0.329 -0.24676 0.31441 -0.23565 0.33924 -0.24352 C 0.3474 -0.24606 0.35504 -0.25116 0.36302 -0.25509 C 0.37257 -0.25972 0.38143 -0.26643 0.39132 -0.26967 C 0.39705 -0.27153 0.40313 -0.27291 0.40868 -0.27546 C 0.41545 -0.2787 0.42153 -0.28403 0.42813 -0.28703 C 0.43959 -0.2919 0.45156 -0.29305 0.46302 -0.29861 C 0.46875 -0.30139 0.47483 -0.30393 0.48056 -0.30717 C 0.48507 -0.30972 0.48906 -0.31366 0.49358 -0.31597 C 0.50191 -0.32014 0.51094 -0.32153 0.51962 -0.32477 C 0.53594 -0.34606 0.56146 -0.34722 0.58264 -0.35648 C 0.60365 -0.36574 0.62778 -0.37222 0.64792 -0.38264 C 0.67031 -0.39421 0.69219 -0.40555 0.71528 -0.41458 C 0.71962 -0.4162 0.72379 -0.41991 0.7283 -0.42037 C 0.73698 -0.42106 0.74566 -0.42037 0.75434 -0.42037 E">
                                      <p:cBhvr>
                                        <p:cTn id="21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C 0.00625 -0.02547 0.00972 -0.03125 0.01944 -0.05232 C 0.02621 -0.06713 0.03038 -0.08102 0.0434 -0.08704 C 0.0566 -0.1 0.06458 -0.10463 0.08038 -0.11019 C 0.09288 -0.1213 0.10295 -0.12732 0.11736 -0.13056 C 0.13073 -0.13774 0.14219 -0.14237 0.15642 -0.14491 C 0.17778 -0.1544 0.19375 -0.15417 0.21736 -0.15649 C 0.26736 -0.16158 0.31719 -0.16598 0.36736 -0.16806 C 0.39271 -0.16922 0.4434 -0.17107 0.4434 -0.17107 E">
                                      <p:cBhvr>
                                        <p:cTn id="21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8.14815E-006 C -0.0059 -0.02476 0.00365 0.01181 -0.00868 -0.02037 C -0.02292 -0.05787 0.000520000000000001 -0.00925 -0.01528 -0.0405 C -0.02292 -0.07245 -0.01007 -0.01967 -0.0217 -0.06087 C -0.02274 -0.06458 -0.02257 -0.06898 -0.02396 -0.07245 C -0.02639 -0.0787 -0.03038 -0.08356 -0.03264 -0.08981 C -0.03472 -0.0956 -0.03559 -0.10254 -0.03906 -0.10717 C -0.04115 -0.10995 -0.04479 -0.10925 -0.04774 -0.11018 C -0.0526 -0.13495 -0.04566 -0.11273 -0.05642 -0.12476 C -0.0717 -0.14189 -0.05503 -0.13287 -0.06962 -0.13912 C -0.08229 -0.16481 -0.06545 -0.13472 -0.08038 -0.15069 C -0.08246 -0.153 -0.08281 -0.15694 -0.08472 -0.15949 C -0.0967 -0.17546 -0.08906 -0.16296 -0.1 -0.17106 C -0.10677 -0.17615 -0.11302 -0.18263 -0.11962 -0.18842 C -0.12465 -0.19282 -0.13767 -0.19513 -0.1434 -0.19722 C -0.16944 -0.22013 -0.21215 -0.2162 -0.23906 -0.21736 C -0.2658 -0.22662 -0.28785 -0.21805 -0.31528 -0.21157 C -0.32743 -0.20879 -0.33976 -0.20787 -0.35208 -0.20578 C -0.35573 -0.20509 -0.35937 -0.20393 -0.36302 -0.203 C -0.36805 -0.19976 -0.37344 -0.19791 -0.3783 -0.19421 C -0.38142 -0.19189 -0.38368 -0.18773 -0.38698 -0.18564 C -0.39167 -0.18263 -0.39705 -0.18194 -0.40208 -0.17986 C -0.40503 -0.17592 -0.41094 -0.16805 -0.41094 -0.16805 E">
                                      <p:cBhvr>
                                        <p:cTn id="21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6.2963E-006 C -0.00208 -0.00184 -0.00486 -0.003 -0.00625 -0.00578 C -0.00781 -0.00809 -0.00729 -0.01203 -0.00833 -0.01458 C -0.00955 -0.01689 -0.01146 -0.01851 -0.01302 -0.02036 C -0.01389 -0.02476 -0.02222 -0.04722 -0.02378 -0.0493 C -0.02483 -0.05092 -0.03837 -0.05485 -0.03906 -0.05509 C -0.06233 -0.06388 -0.04861 -0.06504 -0.08472 -0.06666 C -0.11736 -0.06805 -0.14965 -0.06874 -0.18229 -0.06967 C -0.18594 -0.07059 -0.18958 -0.07245 -0.19323 -0.07245 C -0.29028 -0.07152 -0.3875 -0.07222 -0.48455 -0.06666 C -0.49097 -0.0662 -0.49618 -0.05902 -0.50191 -0.05509 C -0.52031 -0.04282 -0.53611 -0.02106 -0.55625 -0.01458 C -0.56024 -0.0111 -0.56528 -0.00948 -0.56927 -0.00578 C -0.57187 -0.00347 -0.57326 0.00047 -0.57587 0.00278 C -0.58368 0.00973 -0.58229 0.000699999999999999 -0.58229 0.01158 E">
                                      <p:cBhvr>
                                        <p:cTn id="22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96296E-006 C -0.01007 -0.02014 -0.00573 -0.01158 -0.01302 -0.02593 C -0.01302 -0.02616 -0.03698 -0.03658 -0.03924 -0.0375 C -0.05643 -0.05301 -0.08212 -0.05857 -0.10226 -0.06366 C -0.12899 -0.06273 -0.1559 -0.06343 -0.18264 -0.06088 C -0.19636 -0.05949 -0.20677 -0.0375 -0.21736 -0.0375 E">
                                      <p:cBhvr>
                                        <p:cTn id="22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ce6a"/>
            </a:gs>
            <a:gs pos="100000">
              <a:srgbClr val="fdf3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luk[1]"/>
          <p:cNvPicPr/>
          <p:nvPr/>
        </p:nvPicPr>
        <p:blipFill>
          <a:blip r:embed="rId1"/>
          <a:srcRect l="0" t="0" r="0" b="18991"/>
          <a:stretch/>
        </p:blipFill>
        <p:spPr>
          <a:xfrm>
            <a:off x="5867280" y="5299200"/>
            <a:ext cx="1513080" cy="1225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morkov[1]"/>
          <p:cNvPicPr/>
          <p:nvPr/>
        </p:nvPicPr>
        <p:blipFill>
          <a:blip r:embed="rId2"/>
          <a:srcRect l="0" t="0" r="0" b="20578"/>
          <a:stretch/>
        </p:blipFill>
        <p:spPr>
          <a:xfrm>
            <a:off x="2268360" y="4459320"/>
            <a:ext cx="1511640" cy="1201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kartoshka[1]"/>
          <p:cNvPicPr/>
          <p:nvPr/>
        </p:nvPicPr>
        <p:blipFill>
          <a:blip r:embed="rId3"/>
          <a:srcRect l="0" t="0" r="0" b="16837"/>
          <a:stretch/>
        </p:blipFill>
        <p:spPr>
          <a:xfrm>
            <a:off x="7380360" y="3240000"/>
            <a:ext cx="1439640" cy="119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ogurec[1]"/>
          <p:cNvPicPr/>
          <p:nvPr/>
        </p:nvPicPr>
        <p:blipFill>
          <a:blip r:embed="rId4"/>
          <a:srcRect l="0" t="0" r="0" b="20597"/>
          <a:stretch/>
        </p:blipFill>
        <p:spPr>
          <a:xfrm>
            <a:off x="395280" y="4076640"/>
            <a:ext cx="1476360" cy="1171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pomidor[1]"/>
          <p:cNvPicPr/>
          <p:nvPr/>
        </p:nvPicPr>
        <p:blipFill>
          <a:blip r:embed="rId5"/>
          <a:srcRect l="0" t="0" r="0" b="20578"/>
          <a:stretch/>
        </p:blipFill>
        <p:spPr>
          <a:xfrm>
            <a:off x="3995640" y="3213000"/>
            <a:ext cx="1513080" cy="1201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kapusta[1]"/>
          <p:cNvPicPr/>
          <p:nvPr/>
        </p:nvPicPr>
        <p:blipFill>
          <a:blip r:embed="rId6"/>
          <a:srcRect l="0" t="0" r="0" b="20673"/>
          <a:stretch/>
        </p:blipFill>
        <p:spPr>
          <a:xfrm>
            <a:off x="179280" y="5300640"/>
            <a:ext cx="1871640" cy="148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repa[1]"/>
          <p:cNvPicPr/>
          <p:nvPr/>
        </p:nvPicPr>
        <p:blipFill>
          <a:blip r:embed="rId7"/>
          <a:srcRect l="0" t="0" r="0" b="20578"/>
          <a:stretch/>
        </p:blipFill>
        <p:spPr>
          <a:xfrm>
            <a:off x="5867280" y="3141720"/>
            <a:ext cx="1297080" cy="1030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pumpkin[1]"/>
          <p:cNvPicPr/>
          <p:nvPr/>
        </p:nvPicPr>
        <p:blipFill>
          <a:blip r:embed="rId8"/>
          <a:stretch/>
        </p:blipFill>
        <p:spPr>
          <a:xfrm>
            <a:off x="2411280" y="324180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pea[1]"/>
          <p:cNvPicPr/>
          <p:nvPr/>
        </p:nvPicPr>
        <p:blipFill>
          <a:blip r:embed="rId9"/>
          <a:stretch/>
        </p:blipFill>
        <p:spPr>
          <a:xfrm>
            <a:off x="468360" y="3124080"/>
            <a:ext cx="1123920" cy="952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epper[1]"/>
          <p:cNvPicPr/>
          <p:nvPr/>
        </p:nvPicPr>
        <p:blipFill>
          <a:blip r:embed="rId10"/>
          <a:stretch/>
        </p:blipFill>
        <p:spPr>
          <a:xfrm>
            <a:off x="6012000" y="4437000"/>
            <a:ext cx="942840" cy="961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9196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99cc00">
                  <a:alpha val="64313"/>
                </a:srgbClr>
              </a:gs>
              <a:gs pos="100000">
                <a:srgbClr val="a3ee7e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дбери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вощи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по ц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468360" y="1700280"/>
            <a:ext cx="1295280" cy="1287360"/>
          </a:xfrm>
          <a:prstGeom prst="diamond">
            <a:avLst/>
          </a:prstGeom>
          <a:solidFill>
            <a:srgbClr val="0099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997440" y="1700280"/>
            <a:ext cx="1295280" cy="1287360"/>
          </a:xfrm>
          <a:prstGeom prst="diamond">
            <a:avLst/>
          </a:prstGeom>
          <a:solidFill>
            <a:srgbClr val="ff00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5724360" y="1700280"/>
            <a:ext cx="1295640" cy="1287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7451640" y="1700280"/>
            <a:ext cx="1295640" cy="1287360"/>
          </a:xfrm>
          <a:prstGeom prst="diamond">
            <a:avLst/>
          </a:prstGeom>
          <a:solidFill>
            <a:srgbClr val="6633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2268360" y="1700280"/>
            <a:ext cx="1295640" cy="1287360"/>
          </a:xfrm>
          <a:prstGeom prst="diamond">
            <a:avLst/>
          </a:prstGeom>
          <a:solidFill>
            <a:srgbClr val="ff66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6fb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gradFill rotWithShape="0">
            <a:gsLst>
              <a:gs pos="0">
                <a:srgbClr val="66ffff">
                  <a:alpha val="90196"/>
                </a:srgbClr>
              </a:gs>
              <a:gs pos="100000">
                <a:srgbClr val="ffff00">
                  <a:alpha val="63137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дбери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фрукт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по ц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iCA61T5F3"/>
          <p:cNvPicPr/>
          <p:nvPr/>
        </p:nvPicPr>
        <p:blipFill>
          <a:blip r:embed="rId1"/>
          <a:stretch/>
        </p:blipFill>
        <p:spPr>
          <a:xfrm>
            <a:off x="7500960" y="5286240"/>
            <a:ext cx="1366920" cy="1303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CA16XEJB"/>
          <p:cNvPicPr/>
          <p:nvPr/>
        </p:nvPicPr>
        <p:blipFill>
          <a:blip r:embed="rId2"/>
          <a:stretch/>
        </p:blipFill>
        <p:spPr>
          <a:xfrm>
            <a:off x="5786280" y="4071960"/>
            <a:ext cx="130176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iCA9G44JN"/>
          <p:cNvPicPr/>
          <p:nvPr/>
        </p:nvPicPr>
        <p:blipFill>
          <a:blip r:embed="rId3"/>
          <a:stretch/>
        </p:blipFill>
        <p:spPr>
          <a:xfrm>
            <a:off x="642960" y="5721480"/>
            <a:ext cx="1150920" cy="1136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banan[1]"/>
          <p:cNvPicPr/>
          <p:nvPr/>
        </p:nvPicPr>
        <p:blipFill>
          <a:blip r:embed="rId4"/>
          <a:srcRect l="0" t="0" r="0" b="16837"/>
          <a:stretch/>
        </p:blipFill>
        <p:spPr>
          <a:xfrm>
            <a:off x="7215120" y="4071960"/>
            <a:ext cx="1511280" cy="12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vinograd[1]"/>
          <p:cNvPicPr/>
          <p:nvPr/>
        </p:nvPicPr>
        <p:blipFill>
          <a:blip r:embed="rId5"/>
          <a:srcRect l="0" t="0" r="0" b="20673"/>
          <a:stretch/>
        </p:blipFill>
        <p:spPr>
          <a:xfrm rot="18779400">
            <a:off x="2293560" y="4047840"/>
            <a:ext cx="1692000" cy="134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granat[1]"/>
          <p:cNvPicPr/>
          <p:nvPr/>
        </p:nvPicPr>
        <p:blipFill>
          <a:blip r:embed="rId6"/>
          <a:srcRect l="0" t="0" r="0" b="19104"/>
          <a:stretch/>
        </p:blipFill>
        <p:spPr>
          <a:xfrm>
            <a:off x="5786280" y="5572080"/>
            <a:ext cx="1513080" cy="12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greypfrut[1]"/>
          <p:cNvPicPr/>
          <p:nvPr/>
        </p:nvPicPr>
        <p:blipFill>
          <a:blip r:embed="rId7">
            <a:lum bright="-6000"/>
          </a:blip>
          <a:srcRect l="0" t="0" r="0" b="16837"/>
          <a:stretch/>
        </p:blipFill>
        <p:spPr>
          <a:xfrm>
            <a:off x="3857760" y="5500800"/>
            <a:ext cx="1439640" cy="1197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yabloko[1]"/>
          <p:cNvPicPr/>
          <p:nvPr/>
        </p:nvPicPr>
        <p:blipFill>
          <a:blip r:embed="rId8"/>
          <a:srcRect l="0" t="0" r="0" b="13076"/>
          <a:stretch/>
        </p:blipFill>
        <p:spPr>
          <a:xfrm>
            <a:off x="357120" y="4357800"/>
            <a:ext cx="1586160" cy="1392120"/>
          </a:xfrm>
          <a:prstGeom prst="rect">
            <a:avLst/>
          </a:prstGeom>
          <a:ln w="0">
            <a:noFill/>
          </a:ln>
        </p:spPr>
      </p:pic>
      <p:sp>
        <p:nvSpPr>
          <p:cNvPr id="113" name="Oval 15"/>
          <p:cNvSpPr/>
          <p:nvPr/>
        </p:nvSpPr>
        <p:spPr>
          <a:xfrm>
            <a:off x="5929200" y="1422360"/>
            <a:ext cx="936720" cy="93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571680" y="1422360"/>
            <a:ext cx="936360" cy="93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7786800" y="1422360"/>
            <a:ext cx="936360" cy="934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5"/>
          <p:cNvSpPr/>
          <p:nvPr/>
        </p:nvSpPr>
        <p:spPr>
          <a:xfrm>
            <a:off x="2357280" y="1422360"/>
            <a:ext cx="936720" cy="93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4071960" y="1494000"/>
            <a:ext cx="936720" cy="93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1" descr="H:\овощи и фрукты\140978_239688[1].jpg"/>
          <p:cNvPicPr/>
          <p:nvPr/>
        </p:nvPicPr>
        <p:blipFill>
          <a:blip r:embed="rId9"/>
          <a:stretch/>
        </p:blipFill>
        <p:spPr>
          <a:xfrm>
            <a:off x="4357800" y="4143240"/>
            <a:ext cx="865080" cy="1303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iCASQ6L7S"/>
          <p:cNvPicPr/>
          <p:nvPr/>
        </p:nvPicPr>
        <p:blipFill>
          <a:blip r:embed="rId10"/>
          <a:stretch/>
        </p:blipFill>
        <p:spPr>
          <a:xfrm>
            <a:off x="2286000" y="552456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06759 C -0.00069 0.05787 -0.00225 0.04814 -0.00225 0.03842 C -0.00225 0.03541 -0.00052 0.03287 -4.44444E-006 0.02986 C 0.00434 0.00625 0.01059 -0.01343 0.02379 -0.03102 C 0.03108 -0.0588 0.04063 -0.07987 0.05869 -0.09769 C 0.06841 -0.1176 0.05695 -0.09815 0.06945 -0.10926 C 0.07205 -0.11158 0.07344 -0.11575 0.07605 -0.11806 C 0.08073 -0.122 0.08646 -0.12338 0.09132 -0.12662 C 0.10452 -0.14422 0.11407 -0.15857 0.13264 -0.16436 C 0.14601 -0.17338 0.15695 -0.18588 0.16945 -0.1963 C 0.17796 -0.20325 0.17987 -0.20162 0.18907 -0.20787 C 0.19289 -0.21042 0.19619 -0.21412 0.2 -0.21667 C 0.22032 -0.2301 0.18664 -0.20255 0.21737 -0.22524 C 0.23542 -0.23866 0.21667 -0.23102 0.23473 -0.23681 C 0.27553 -0.26412 0.34445 -0.25996 0.38264 -0.25996 E">
                                      <p:cBhvr>
                                        <p:cTn id="37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6389 C -0.00191 0.03357 0.00521 0.01482 0.01841 -0.01157 C 0.01997 -0.01458 0.02795 -0.03055 0.02917 -0.03171 C 0.04098 -0.04189 0.03386 -0.03495 0.04879 -0.05486 L 0.04879 -0.05463 C 0.05174 -0.05787 0.05452 -0.06088 0.05747 -0.06365 C 0.06094 -0.06666 0.06493 -0.06898 0.06841 -0.07222 C 0.07014 -0.07384 0.07101 -0.07685 0.07275 -0.07824 C 0.07604 -0.08078 0.08021 -0.08148 0.08351 -0.08402 C 0.09306 -0.09097 0.0967 -0.09768 0.10747 -0.10138 C 0.11146 -0.11643 0.11563 -0.1125 0.12483 -0.11875 C 0.14254 -0.13078 0.15782 -0.14629 0.17483 -0.15925 C 0.17709 -0.16088 0.17934 -0.16296 0.1816 -0.16504 C 0.18455 -0.16782 0.18716 -0.17152 0.19028 -0.17384 C 0.19948 -0.18078 0.20955 -0.18217 0.21858 -0.1912 C 0.22587 -0.19861 0.22327 -0.20069 0.2316 -0.20555 C 0.23438 -0.20717 0.2375 -0.20694 0.24028 -0.20856 C 0.24618 -0.2118 0.25191 -0.2162 0.25764 -0.22013 C 0.27379 -0.23078 0.29462 -0.23588 0.31198 -0.2405 C 0.32778 -0.24467 0.3441 -0.25254 0.3599 -0.25787 C 0.36927 -0.26088 0.36337 -0.26064 0.36858 -0.26064 E">
                                      <p:cBhvr>
                                        <p:cTn id="37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5301 C -0.00173 0.03056 -0.00555 0.00579 -0.0151 -0.01365 C -0.01892 -0.04282 -0.0309 -0.07176 -0.04774 -0.09189 C -0.0559 -0.10162 -0.0644 -0.10648 -0.0717 -0.11782 C -0.08263 -0.13518 -0.0901 -0.15463 -0.10434 -0.16713 C -0.10972 -0.17801 -0.11475 -0.18055 -0.12378 -0.18449 C -0.13142 -0.20416 -0.14149 -0.20926 -0.15434 -0.21944 C -0.16388 -0.22708 -0.17413 -0.24074 -0.18472 -0.24537 C -0.19687 -0.24305 -0.20625 -0.24282 -0.2151 -0.23101 E">
                                      <p:cBhvr>
                                        <p:cTn id="37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4815 C -0.00486 0.02778 -0.00781 0.0088 -0.01961 -0.00694 C -0.02673 -0.01643 -0.03889 -0.01759 -0.04774 -0.0243 C -0.05659 -0.03102 -0.06146 -0.03842 -0.0717 -0.04166 C -0.08593 -0.05671 -0.10034 -0.06759 -0.11736 -0.07662 C -0.12725 -0.09398 -0.13385 -0.0919 -0.14774 -0.10254 C -0.15225 -0.10602 -0.15625 -0.11065 -0.16076 -0.11412 C -0.17916 -0.12754 -0.19861 -0.13958 -0.21736 -0.15185 C -0.22586 -0.15741 -0.23333 -0.16551 -0.24132 -0.17222 C -0.24409 -0.17454 -0.27951 -0.19074 -0.28698 -0.19236 C -0.30069 -0.20463 -0.31718 -0.20579 -0.33264 -0.21273 C -0.35972 -0.22477 -0.38906 -0.22477 -0.41736 -0.22731 C -0.42465 -0.22893 -0.43177 -0.23171 -0.43906 -0.2331 C -0.45573 -0.23634 -0.48906 -0.24166 -0.48906 -0.24143 C -0.52257 -0.25926 -0.575 -0.26921 -0.60208 -0.2331 E">
                                      <p:cBhvr>
                                        <p:cTn id="38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8773 C -0.00069 0.08101 -0.00087 0.07407 -0.00226 0.06736 C -0.00677 0.0456 -0.02292 0.02986 -0.03264 0.01226 C -0.04496 -0.00973 -0.0408 -0.00556 -0.05868 -0.02246 C -0.06458 -0.02801 -0.06927 -0.03635 -0.07604 -0.03982 C -0.08542 -0.04491 -0.09479 -0.04723 -0.10434 -0.05139 C -0.11389 -0.05973 -0.12378 -0.05926 -0.13472 -0.06297 C -0.1592 -0.0713 -0.17934 -0.0794 -0.20434 -0.08334 C -0.22969 -0.08264 -0.29757 -0.08172 -0.33264 -0.07755 C -0.34357 -0.07616 -0.35417 -0.06852 -0.36528 -0.06598 C -0.36736 -0.06505 -0.36962 -0.06436 -0.3717 -0.06297 C -0.37413 -0.06135 -0.37587 -0.05857 -0.3783 -0.05718 C -0.38889 -0.05116 -0.40191 -0.04862 -0.41302 -0.04561 C -0.42482 -0.03635 -0.43542 -0.0345 -0.44792 -0.02825 C -0.45816 -0.02315 -0.4684 -0.01737 -0.4783 -0.01088 C -0.49392 -0.00047 -0.48003 -0.00857 -0.49566 -0.00232 C -0.5 -0.00047 -0.50868 0.0037 -0.50868 0.00393 C -0.51962 0.01782 -0.53333 0.02939 -0.54792 0.03541 C -0.55 0.03726 -0.55208 0.03958 -0.55434 0.0412 C -0.55642 0.04259 -0.55885 0.04259 -0.56094 0.04421 C -0.56545 0.04768 -0.57396 0.05578 -0.57396 0.05601 E">
                                      <p:cBhvr>
                                        <p:cTn id="38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0.02384 C 0.02986 0.00741 0.025 0.02222 0.03646 0.0037 C 0.04115 -0.0037 0.04948 -0.01944 0.04948 -0.01921 C 0.05469 -0.03982 0.04757 -0.01435 0.06042 -0.0456 C 0.06146 -0.04838 0.06128 -0.05162 0.0625 -0.0544 C 0.06806 -0.06713 0.08333 -0.08912 0.09306 -0.09769 C 0.10747 -0.12685 0.12865 -0.14977 0.14948 -0.17014 C 0.17274 -0.19282 0.17222 -0.19745 0.19948 -0.20787 C 0.2151 -0.2287 0.20434 -0.2169 0.2342 -0.23681 C 0.24392 -0.24329 0.25677 -0.25556 0.26684 -0.26019 C 0.2717 -0.2625 0.27708 -0.26204 0.28212 -0.26296 C 0.29323 -0.26921 0.30365 -0.27732 0.31476 -0.28333 C 0.35781 -0.30625 0.40347 -0.32176 0.4474 -0.3412 C 0.46736 -0.35 0.48889 -0.35694 0.50816 -0.36736 C 0.52344 -0.37569 0.52639 -0.3787 0.54306 -0.38194 C 0.56337 -0.39815 0.58698 -0.40857 0.61042 -0.41366 C 0.61597 -0.4162 0.62222 -0.41667 0.62778 -0.41944 C 0.63021 -0.4206 0.63177 -0.42407 0.6342 -0.42523 C 0.63767 -0.42708 0.64149 -0.42732 0.64514 -0.42824 C 0.65799 -0.43958 0.68594 -0.43982 0.70174 -0.4456 C 0.71059 -0.44884 0.7191 -0.45324 0.72778 -0.45718 C 0.74375 -0.46435 0.76771 -0.46296 0.7842 -0.46296 E">
                                      <p:cBhvr>
                                        <p:cTn id="39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3819 C 0.00487 0.01736 0.00313 0.0287 5E-006 -0.01111 C -0.0019 -0.03634 -0.0092 -0.06551 -0.01961 -0.08658 C -0.02414 -0.10486 -0.03264 -0.11621 -0.04358 -0.12709 C -0.04757 -0.14398 -0.04254 -0.12871 -0.05225 -0.14167 C -0.05417 -0.14398 -0.05469 -0.14769 -0.0566 -0.15023 C -0.06858 -0.16621 -0.08629 -0.17408 -0.10226 -0.17917 C -0.10955 -0.18403 -0.11615 -0.19097 -0.12396 -0.19375 C -0.13264 -0.19699 -0.15 -0.20255 -0.15 -0.20232 C -0.16459 -0.20162 -0.17935 -0.20324 -0.19358 -0.19954 C -0.19879 -0.19815 -0.2066 -0.18797 -0.2066 -0.18773 C -0.20747 -0.18426 -0.20955 -0.17246 -0.21303 -0.1706 C -0.21476 -0.16968 -0.22205 -0.175 -0.22396 -0.17639 E">
                                      <p:cBhvr>
                                        <p:cTn id="39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11459 C 0.0007 0.08959 0.00087 0.06435 0.00208 0.03935 C 0.00295 0.02199 0.01059 0.00949 0.01736 -0.00416 C 0.02326 -0.01597 0.02761 -0.03125 0.03472 -0.0419 C 0.04132 -0.05185 0.05104 -0.05694 0.05868 -0.06504 C 0.0724 -0.07963 0.08229 -0.09421 0.1 -0.09977 C 0.1099 -0.11319 0.11406 -0.10833 0.12604 -0.11435 C 0.14149 -0.12222 0.15764 -0.12616 0.17379 -0.13171 C 0.22361 -0.14907 0.18854 -0.13889 0.21511 -0.14629 C 0.22761 -0.15463 0.24254 -0.15995 0.25642 -0.16366 C 0.28837 -0.16273 0.32031 -0.16319 0.35208 -0.16065 C 0.35799 -0.16018 0.36945 -0.15486 0.36945 -0.15463 C 0.37552 -0.14954 0.38195 -0.14467 0.38681 -0.1375 E">
                                      <p:cBhvr>
                                        <p:cTn id="39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4977 C 0.00226 0.03426 0.00486 0.01829 0.00868 0.00347 C 0.00695 -0.02523 0.00573 -0.06134 -0.0066 -0.08657 C -0.01232 -0.10995 -0.01441 -0.11852 -0.03038 -0.13287 C -0.03489 -0.15 -0.04097 -0.15301 -0.05226 -0.16181 C -0.06545 -0.17199 -0.07951 -0.17523 -0.09357 -0.18218 C -0.10729 -0.18912 -0.11788 -0.19375 -0.13264 -0.19653 C -0.15503 -0.1956 -0.1776 -0.1963 -0.2 -0.19375 C -0.20677 -0.19306 -0.20885 -0.18009 -0.21736 -0.17639 C -0.22743 -0.15602 -0.22309 -0.16481 -0.23038 -0.15023 C -0.23177 -0.14722 -0.23472 -0.14143 -0.23472 -0.1412 E">
                                      <p:cBhvr>
                                        <p:cTn id="40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5417 C 0.00225 0.04005 0.00538 0.02708 0.00868 0.01343 C 0.00798 -0.02801 0.00798 -0.06968 0.00659 -0.11111 C 0.00625 -0.12454 -0.00053 -0.13704 -0.00434 -0.14884 C -0.00591 -0.15393 -0.00591 -0.16088 -0.01077 -0.16343 C -0.01494 -0.16551 -0.01945 -0.16528 -0.02379 -0.1662 C -0.03421 -0.17315 -0.04046 -0.17523 -0.05209 -0.17778 C -0.05973 -0.18449 -0.06737 -0.18565 -0.07605 -0.18935 C -0.09775 -0.17986 -0.11216 -0.17593 -0.13039 -0.15741 C -0.13559 -0.13611 -0.12796 -0.16134 -0.13907 -0.14305 C -0.14046 -0.14074 -0.14011 -0.1368 -0.14132 -0.13426 C -0.14306 -0.13079 -0.14566 -0.12847 -0.14775 -0.12569 C -0.15087 -0.11366 -0.15278 -0.10671 -0.16077 -0.09954 C -0.16146 -0.09653 -0.16303 -0.09074 -0.16303 -0.09051 E">
                                      <p:cBhvr>
                                        <p:cTn id="40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ff8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15"/>
          <p:cNvSpPr/>
          <p:nvPr/>
        </p:nvSpPr>
        <p:spPr>
          <a:xfrm>
            <a:off x="6012000" y="1628640"/>
            <a:ext cx="936360" cy="935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611280" y="1628640"/>
            <a:ext cx="936360" cy="935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7740720" y="1628640"/>
            <a:ext cx="936720" cy="93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2411280" y="1628640"/>
            <a:ext cx="936720" cy="93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5"/>
          <p:cNvSpPr/>
          <p:nvPr/>
        </p:nvSpPr>
        <p:spPr>
          <a:xfrm>
            <a:off x="4175280" y="1628640"/>
            <a:ext cx="936360" cy="93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iCA61T5F3"/>
          <p:cNvPicPr/>
          <p:nvPr/>
        </p:nvPicPr>
        <p:blipFill>
          <a:blip r:embed="rId1"/>
          <a:stretch/>
        </p:blipFill>
        <p:spPr>
          <a:xfrm>
            <a:off x="5867280" y="4646520"/>
            <a:ext cx="1366920" cy="1303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iCA16XEJB"/>
          <p:cNvPicPr/>
          <p:nvPr/>
        </p:nvPicPr>
        <p:blipFill>
          <a:blip r:embed="rId2"/>
          <a:stretch/>
        </p:blipFill>
        <p:spPr>
          <a:xfrm>
            <a:off x="468360" y="2997360"/>
            <a:ext cx="1301760" cy="165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iCA9G44JN"/>
          <p:cNvPicPr/>
          <p:nvPr/>
        </p:nvPicPr>
        <p:blipFill>
          <a:blip r:embed="rId3"/>
          <a:stretch/>
        </p:blipFill>
        <p:spPr>
          <a:xfrm>
            <a:off x="7596360" y="2781360"/>
            <a:ext cx="1150920" cy="113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banan[1]"/>
          <p:cNvPicPr/>
          <p:nvPr/>
        </p:nvPicPr>
        <p:blipFill>
          <a:blip r:embed="rId4"/>
          <a:srcRect l="0" t="0" r="0" b="16837"/>
          <a:stretch/>
        </p:blipFill>
        <p:spPr>
          <a:xfrm>
            <a:off x="2124000" y="3036960"/>
            <a:ext cx="151128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vinograd[1]"/>
          <p:cNvPicPr/>
          <p:nvPr/>
        </p:nvPicPr>
        <p:blipFill>
          <a:blip r:embed="rId5"/>
          <a:srcRect l="0" t="0" r="0" b="20673"/>
          <a:stretch/>
        </p:blipFill>
        <p:spPr>
          <a:xfrm rot="18779400">
            <a:off x="5621040" y="2733120"/>
            <a:ext cx="1692360" cy="134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granat[1]"/>
          <p:cNvPicPr/>
          <p:nvPr/>
        </p:nvPicPr>
        <p:blipFill>
          <a:blip r:embed="rId6">
            <a:lum contrast="12000"/>
          </a:blip>
          <a:srcRect l="0" t="0" r="0" b="19104"/>
          <a:stretch/>
        </p:blipFill>
        <p:spPr>
          <a:xfrm>
            <a:off x="3924360" y="472428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greypfrut[1]"/>
          <p:cNvPicPr/>
          <p:nvPr/>
        </p:nvPicPr>
        <p:blipFill>
          <a:blip r:embed="rId7"/>
          <a:srcRect l="5064" t="0" r="0" b="16837"/>
          <a:stretch/>
        </p:blipFill>
        <p:spPr>
          <a:xfrm>
            <a:off x="7524720" y="4680000"/>
            <a:ext cx="1366920" cy="11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yabloko[1]"/>
          <p:cNvPicPr/>
          <p:nvPr/>
        </p:nvPicPr>
        <p:blipFill>
          <a:blip r:embed="rId8"/>
          <a:srcRect l="0" t="0" r="0" b="13076"/>
          <a:stretch/>
        </p:blipFill>
        <p:spPr>
          <a:xfrm>
            <a:off x="3924360" y="2852640"/>
            <a:ext cx="1585800" cy="1392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250920" y="260280"/>
            <a:ext cx="8642160" cy="1143000"/>
          </a:xfrm>
          <a:prstGeom prst="rect">
            <a:avLst/>
          </a:prstGeom>
          <a:gradFill rotWithShape="0">
            <a:gsLst>
              <a:gs pos="0">
                <a:srgbClr val="66ffff">
                  <a:alpha val="90196"/>
                </a:srgbClr>
              </a:gs>
              <a:gs pos="100000">
                <a:srgbClr val="ffff00">
                  <a:alpha val="6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дбери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фрукты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по ц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6" descr="H:\овощи и фрукты\140978_239688[1].jpg"/>
          <p:cNvPicPr/>
          <p:nvPr/>
        </p:nvPicPr>
        <p:blipFill>
          <a:blip r:embed="rId9"/>
          <a:stretch/>
        </p:blipFill>
        <p:spPr>
          <a:xfrm>
            <a:off x="2411280" y="4581360"/>
            <a:ext cx="978120" cy="1478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iCASQ6L7S"/>
          <p:cNvPicPr/>
          <p:nvPr/>
        </p:nvPicPr>
        <p:blipFill>
          <a:blip r:embed="rId10"/>
          <a:stretch/>
        </p:blipFill>
        <p:spPr>
          <a:xfrm>
            <a:off x="468360" y="486900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50920" y="3932280"/>
            <a:ext cx="8642160" cy="14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14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Что  лишне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beet[1]"/>
          <p:cNvPicPr/>
          <p:nvPr/>
        </p:nvPicPr>
        <p:blipFill>
          <a:blip r:embed="rId4"/>
          <a:stretch/>
        </p:blipFill>
        <p:spPr>
          <a:xfrm>
            <a:off x="3143160" y="2133720"/>
            <a:ext cx="1428840" cy="1238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iCA9G44JN"/>
          <p:cNvPicPr/>
          <p:nvPr/>
        </p:nvPicPr>
        <p:blipFill>
          <a:blip r:embed="rId5"/>
          <a:stretch/>
        </p:blipFill>
        <p:spPr>
          <a:xfrm>
            <a:off x="5435640" y="2060640"/>
            <a:ext cx="1297080" cy="1280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radish_1[1]"/>
          <p:cNvPicPr/>
          <p:nvPr/>
        </p:nvPicPr>
        <p:blipFill>
          <a:blip r:embed="rId6"/>
          <a:stretch/>
        </p:blipFill>
        <p:spPr>
          <a:xfrm>
            <a:off x="7164360" y="1700280"/>
            <a:ext cx="165096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iCA61T5F3"/>
          <p:cNvPicPr/>
          <p:nvPr/>
        </p:nvPicPr>
        <p:blipFill>
          <a:blip r:embed="rId7"/>
          <a:stretch/>
        </p:blipFill>
        <p:spPr>
          <a:xfrm>
            <a:off x="5076720" y="472428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iCA16XEJB"/>
          <p:cNvPicPr/>
          <p:nvPr/>
        </p:nvPicPr>
        <p:blipFill>
          <a:blip r:embed="rId8"/>
          <a:stretch/>
        </p:blipFill>
        <p:spPr>
          <a:xfrm>
            <a:off x="2916360" y="4437000"/>
            <a:ext cx="1406520" cy="1789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garlic[1]"/>
          <p:cNvPicPr/>
          <p:nvPr/>
        </p:nvPicPr>
        <p:blipFill>
          <a:blip r:embed="rId9">
            <a:lum contrast="12000"/>
          </a:blip>
          <a:stretch/>
        </p:blipFill>
        <p:spPr>
          <a:xfrm>
            <a:off x="7308720" y="4869000"/>
            <a:ext cx="1211400" cy="122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grusha[1]"/>
          <p:cNvPicPr/>
          <p:nvPr/>
        </p:nvPicPr>
        <p:blipFill>
          <a:blip r:embed="rId10"/>
          <a:srcRect l="0" t="0" r="0" b="13076"/>
          <a:stretch/>
        </p:blipFill>
        <p:spPr>
          <a:xfrm>
            <a:off x="468360" y="4437000"/>
            <a:ext cx="1905120" cy="16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kapusta[1]"/>
          <p:cNvPicPr/>
          <p:nvPr/>
        </p:nvPicPr>
        <p:blipFill>
          <a:blip r:embed="rId11"/>
          <a:srcRect l="0" t="0" r="0" b="16837"/>
          <a:stretch/>
        </p:blipFill>
        <p:spPr>
          <a:xfrm>
            <a:off x="468360" y="1989000"/>
            <a:ext cx="1905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250920" y="3932280"/>
            <a:ext cx="8642160" cy="14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14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Что  лишне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beet[1]"/>
          <p:cNvPicPr/>
          <p:nvPr/>
        </p:nvPicPr>
        <p:blipFill>
          <a:blip r:embed="rId4"/>
          <a:stretch/>
        </p:blipFill>
        <p:spPr>
          <a:xfrm>
            <a:off x="3143160" y="2133720"/>
            <a:ext cx="1428840" cy="123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iCA9G44JN"/>
          <p:cNvPicPr/>
          <p:nvPr/>
        </p:nvPicPr>
        <p:blipFill>
          <a:blip r:embed="rId5"/>
          <a:stretch/>
        </p:blipFill>
        <p:spPr>
          <a:xfrm>
            <a:off x="5435640" y="2060640"/>
            <a:ext cx="1297080" cy="12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radish_1[1]"/>
          <p:cNvPicPr/>
          <p:nvPr/>
        </p:nvPicPr>
        <p:blipFill>
          <a:blip r:embed="rId6"/>
          <a:stretch/>
        </p:blipFill>
        <p:spPr>
          <a:xfrm>
            <a:off x="7164360" y="1700280"/>
            <a:ext cx="1650960" cy="1714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iCA61T5F3"/>
          <p:cNvPicPr/>
          <p:nvPr/>
        </p:nvPicPr>
        <p:blipFill>
          <a:blip r:embed="rId7"/>
          <a:stretch/>
        </p:blipFill>
        <p:spPr>
          <a:xfrm>
            <a:off x="5076720" y="472428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iCA16XEJB"/>
          <p:cNvPicPr/>
          <p:nvPr/>
        </p:nvPicPr>
        <p:blipFill>
          <a:blip r:embed="rId8"/>
          <a:stretch/>
        </p:blipFill>
        <p:spPr>
          <a:xfrm>
            <a:off x="2916360" y="4437000"/>
            <a:ext cx="1406520" cy="178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garlic[1]"/>
          <p:cNvPicPr/>
          <p:nvPr/>
        </p:nvPicPr>
        <p:blipFill>
          <a:blip r:embed="rId9">
            <a:lum contrast="12000"/>
          </a:blip>
          <a:stretch/>
        </p:blipFill>
        <p:spPr>
          <a:xfrm>
            <a:off x="7308720" y="4869000"/>
            <a:ext cx="1211400" cy="122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grusha[1]"/>
          <p:cNvPicPr/>
          <p:nvPr/>
        </p:nvPicPr>
        <p:blipFill>
          <a:blip r:embed="rId10"/>
          <a:srcRect l="0" t="0" r="0" b="13076"/>
          <a:stretch/>
        </p:blipFill>
        <p:spPr>
          <a:xfrm>
            <a:off x="468360" y="4437000"/>
            <a:ext cx="1905120" cy="165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kapusta[1]"/>
          <p:cNvPicPr/>
          <p:nvPr/>
        </p:nvPicPr>
        <p:blipFill>
          <a:blip r:embed="rId11"/>
          <a:srcRect l="0" t="0" r="0" b="16837"/>
          <a:stretch/>
        </p:blipFill>
        <p:spPr>
          <a:xfrm>
            <a:off x="468360" y="1989000"/>
            <a:ext cx="1905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1:46:20Z</dcterms:created>
  <dc:creator>Ученик</dc:creator>
  <dc:description/>
  <dc:language>en-US</dc:language>
  <cp:lastModifiedBy>Андрей</cp:lastModifiedBy>
  <dcterms:modified xsi:type="dcterms:W3CDTF">2021-01-31T10:55:15Z</dcterms:modified>
  <cp:revision>46</cp:revision>
  <dc:subject/>
  <dc:title>Овощи  и  фрукты</dc:title>
</cp:coreProperties>
</file>